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5A29-F186-49FA-9FCC-980C43B8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7C6-5CA1-4336-AA89-62135E15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CC2E4-3A66-4F34-B6AF-D835E27E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4E031-2C9A-499C-9217-2AC25B51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18CB4-52F0-466D-B251-9667D3A5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35BB6-ADF7-4E99-BEC6-500B9882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0C869-CFA5-42DE-A4AB-E6C1A945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EBE73-4E91-4829-9159-413E86EB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77CE3-AB2E-41CD-8AD4-E44A624D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DEB7A-5764-4BFB-88A7-F4456664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5ED36-B9C7-4E1F-8242-D1D667CA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169D0-C9DF-4B79-AE05-CEF24172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E29-D27F-48BD-A58C-E3E7C682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47655-4FB6-4AB6-AB9C-671D812A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3DBDD-D629-4A97-B2C4-B59ED728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14459-9486-4360-8857-99FC936D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8CF00-B305-4302-82D0-B045C7FC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4C47B-A548-44E1-A56F-27D1A47E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327FA-2F3E-4010-A5FB-508A80AC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C2167-CE4F-48C4-AE26-55508E2B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11E0C-B01A-41D8-92BA-9FEC6D3B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53C42-CCAF-4282-90FD-A1D328EB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D9461-0D9D-49C7-82A8-325818D5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36A-2E85-4590-9182-C609A27F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F89C4-A60F-41DF-BD77-154A4E87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28CE0-8AA7-47B5-B278-DAA868C6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09CC7-93FD-404A-A268-ED84D83B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03FC5-05A8-4B74-ACC0-81AF5155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5B2C7-CA08-47BB-BA2F-31E39CB5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87B72-8B34-40CA-8F03-C3037B59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E124F-EE47-4D7C-B237-264EA08E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87A4F-283F-43DF-B7B1-F17123E8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CB8E7-29F5-4E93-B111-79C5FEAD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F708E-9955-4098-B285-FC8DDEA9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6484-A611-42AF-B3C2-BC8F760C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B08A8-8A29-4356-99DA-4107B659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E011C-C02D-4D90-A716-735AD705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2DA04-09C8-4AB3-A8CB-7FDE595E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E0310-6E2E-4508-A6F1-FE442FF3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94599-E096-46A3-BA7E-A9F27B39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D4F02-F541-4271-BB58-1D82B7A9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70DFC-A7CB-4D4B-BD63-0B941708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226A8-1407-4BF4-AB1B-A15EFA01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96CE1-B8C4-4A1A-AB1E-981E4A1B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7B7AE-E0A6-4414-899E-E958B8E7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0E70-7473-48EC-BBC0-87F9B3A5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0D295-E02E-412C-8037-BDF2C2FE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0BD58-AE07-4421-9379-B0F737E3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49ADC-EA7E-4C9E-8C8E-9526AEAC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2DD6B-2017-437E-A678-D7B21AE9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A6D66-DF39-47CD-83A6-1B1F831F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A9E7-9F66-4FEA-B40C-65D11AA4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5899-8759-4C63-9E1F-62C924C0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2A79-E3AE-4273-89C7-BA5ED879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7A2D-10DC-417E-887E-7B0B6953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9CC8-95B1-42BE-B289-F7D76503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5A1-6436-472B-92F7-69506C19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0AA1-E187-4801-984B-F45F3B83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AAA1-6FCA-4F65-8F36-0E75241E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6A96-1343-4D84-BF9B-42C0DFC5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C774-8CA1-4904-82E9-59D2CBA5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C34E-E44E-4889-83BB-FDB46E9A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42808-0523-42DB-A5F7-4074C35F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D1DE-05B3-48CF-809B-FFA9DF1A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BA5A7-FC7D-4F9D-8895-5ECE23A4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C148D-9F57-4135-BDC2-9BEA9BAD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81C2A-0B69-4C63-9EA7-96F43152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35E-867F-46EB-B066-715512F9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15F7F-DBDF-4D5C-80C5-30CE58B3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17170-373A-4C09-9447-30D74707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72E2E-000E-4D9B-AF4B-6FCBF2FE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99C6B-1408-43B4-861E-DD0B4669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6D304-4A94-41C1-A37A-A3F5119B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8AC11-ABAE-48C1-861F-466D9C47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C7748-3661-4CAF-98BB-C78CA20C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A9D7D-E111-415E-9C87-A46E8A8C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4240D-E6A2-482F-A863-79259FDE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1E69E-5CBE-4DBA-ABE1-9E913731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53C-A925-4C63-B7FC-D79E88E5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1C31C-776D-4664-8213-14F82D4C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E2F9F-1D85-4229-B7DA-BDD760C6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886D6-942F-41DA-B4CF-CCBA3A5E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250BC-FC4C-4E85-8841-3D10FA8C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618CF-9B06-46B5-AE93-3AC32037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4E4F2-F4B7-4D70-BCA2-EECB260C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F63D4-7350-4144-BFF6-2EC0C9CF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58766-D80B-47DF-9F89-DD0D1E08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9B04D-292D-40B0-AC47-DB9C5535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40F6A-D6D8-41DD-911B-1129186B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BDC-B8E6-4290-99F0-A97CC205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D2951-0A4D-48A2-BB18-14AD9CD6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98E24-DAD2-4107-8E08-4ECA9F29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63DA3-9649-4882-A568-2FA8393E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1E272-C260-4ED8-A89B-FD403C4A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6DE60-27BB-437C-A152-D3EF1B1D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3EAA2-B2A8-4775-9824-F9A633C7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46E0B-4968-4943-8723-555CCF6D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7012C-1A40-4C8D-9D18-8DB0177A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22CB9-E37F-4599-B0D1-2E485BCB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1E9E3-CDC4-4986-9029-8F61E003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30F8-DCD8-49E0-9455-DEAA2681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E3A84-75B6-4458-B2B5-5CAE3E6C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A96D5-D630-4081-AF2A-964242EA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E96A1-7AF6-44C7-93AE-2B70F56F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C95F7-6FBF-4160-ABB4-92B96978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ACF4C-F3BA-4B4E-B002-070B497F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A859C-CA28-4966-87A7-72E33146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A1F6F-4568-4DE5-B80C-3AE6414E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EB40E-5071-4EB5-B457-D9AEA79E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EE5EA-A85E-467F-BAE8-37E087E3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6F8E0-86A6-4F94-8384-DBB23957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8DD-3DC3-4E7D-9346-ACA9A8C8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9E3F9-66BD-4E3B-A597-706AB371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2054E-CB54-4DF1-9632-4E9FD49C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F1AF7-BF76-46FF-914E-E875EDB5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B0DA1-AAAC-4D0C-AD6D-C85DB873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14913-0EF4-4E5E-B9A0-55FD31CE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DAF07-23F0-4888-9056-CDEC48A6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8A46C-B856-4855-B86B-028E7775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1EDC6-B3B8-41F1-BF27-FA5696B1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6FADA-67AB-4679-8302-E94D1586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E2B4B-E034-4729-A12E-464CC8D8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BC82-8E86-4518-9BB1-6F6B4FDA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D03FD-6479-4D49-8860-C9B9C03F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C8FBF-54F3-4547-8525-5EF1AD4B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5D184-149B-4D1C-B521-36F295AC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A6943-5B30-423C-9697-5ABAD414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F751E-8393-4675-9DF4-8087D866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24C65-1463-4AF9-8837-77DF2056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B64BC-1A1B-407E-9B77-56A65470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5F3DC-3E36-48C4-BBE9-DAA7E7A9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7BB2E-60A9-4253-8398-5168E316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4BA8E-5698-434B-B114-49795EFF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8E4-771D-4A24-B40A-3614B624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BE63F-1A2F-480A-9FA6-A66A82CE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FC47B-1E49-44A0-A8F8-CE9FD974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54565-BC54-4146-8174-4E69C110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2D685-A9E4-4685-9638-BAC86004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1FD26-A910-4799-926F-71382777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29E62-8C87-4476-9BE6-134A9118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AF615-6CCC-40B4-9D4E-FB951DDA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123CE-C58A-4BAB-890C-6AD6D460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5B1B1-6957-4E31-89A7-E45F12A8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4D7AE-5896-4D0A-B2F8-F55F8DFE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72B4-BC6F-4293-83A7-02A2A4BB3D2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ED3C-F20D-40B3-B2C3-5BD8B6C41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04DA-71FC-489B-A970-6B85E0CD4F4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F33B-61F7-4F12-B73D-63E92ECB2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C2ED-FA8D-4E46-BA69-65E01F7BB99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8343-F92B-440C-B505-D988D6DC4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5EAC-956F-4842-9451-036C374781E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53DA-4DDC-48FA-880F-0C6B6D904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AD0A-BF8B-40E9-9857-DEDE0D0E2B2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D5A8-6CB3-4FDE-B0E0-1A4C3D26C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9676-1662-4D29-900F-6D0ED42DB00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C447-BDBD-4A19-ADBB-C0D11B3D8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151C-AB77-49F2-BEF9-6A0F3EEEB74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0F2C-B711-4335-870C-39D3EE2BD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0F54-8CAE-457E-8C8D-40E2403BC76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F55C-689C-42ED-84BE-A006DA81F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4A6D-B7AC-4D8D-8B70-DEF93CB19E5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89BE-9645-43EB-8EB4-1E86B291C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9282-4DE1-4348-9624-0221D2A363B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23F3-AAFB-4C9C-B4F4-07B90036F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813E-E08C-4E92-A1AA-0F1550565EC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272C-4FCA-4BD6-A910-96D21512B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D64B-CB2F-40D5-AE13-7AAC14880B7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8240-9486-4599-B6BF-280038056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91"/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92"/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101"/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102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103"/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104"/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105"/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AutoShape 106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107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108"/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109"/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110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111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rw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s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rwin’s Pigeon-Breeding experiment is a form of this type of Selection and helped him form his ideas about Natural Sele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Artificial Sele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is a heritable change over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ev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is what Natural Selection acts 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are Genetic Varia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mechanism for Chang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Survival and Reproduction of the organisms that are genetically best adapted to the environment is best described a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Natural Sele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turally selected, favorable traits are passed on by the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are gen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e name of the ship that Darwin sailed around on the world making observations of the natural wor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are the 4 Components of Natural Sele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are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. Genetic Variation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.Overproduction of Offspring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3.Struggle for Existence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4. Survival and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NA, RNA, and amino acid similarities are an example of this type of evidence for evolu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biochemic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whale forelimb, a bird wing, and a human arm are examples of these struct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are homologous struc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t this level of development a human, a pig, and a chicken have similar structures such as tails and Pharyngeal Pou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an embry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remnants of a pelvic bone in a whale skeleton is an example of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are vestigial struc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the HMS Beag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physiological adaptation which serves as a form evidence that species change over time…and it can be directly observed in the lab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bacterial resistance to antibiotics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(Physiological Adap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is the type of selection that occurs when an average trait is favo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stabiliz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is the term that describes when a physical barrier divides a popul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geographic iso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occurs when an ancestor species evolves into an array of species to fit various niches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(Darwin’s Finch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daptive Rad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describes an organism that has multiple pairs or an abnormal set of chromosom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polyploid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is the set of islands on which Darwin made observations crucial to the development of his the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pattern of evolution occurs when two unrelated species evolve similar characteristics due to environmental pressu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convergent ev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ne species of Boobies mates in the Spring and another mates in the Fall.  What is this an example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reproductive Iso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equation can measure the amount of natural selection in a popul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the Hardy-Weinberg Princip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Gradualism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is one theory that describes that rate of what __________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Speci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vement of Genes in and out of a gene pool is referred to as 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Gene Fl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are the Galapagos Islan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tural Sele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utation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Gene Flow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netic Drift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e mechanisms for…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Ev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is the title of Darwin’s book which detailed his theory of evolution by natural sele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Origin of Specie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is the idea that all species share one or more common ancestor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Descent with Modific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ashley_borden</cp:lastModifiedBy>
  <dcterms:modified xsi:type="dcterms:W3CDTF">2010-02-26T15:31:14Z</dcterms:modified>
  <cp:revision>46</cp:revision>
  <dc:subject/>
  <dc:title>Blank Jeopardy</dc:title>
</cp:coreProperties>
</file>